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7AA1C-7B96-4BEA-B5AF-3E9A98B3902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58044-00E9-467A-A95A-197C182C971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l aprendizaje de las declinaciones se vincula con el uso de los cas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4F98-6592-47C9-857F-F38BAB8B5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0E43-A94F-4002-BD33-1D463EBF6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3083-6C7D-457A-8203-21CF5A58F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3299-2B6A-4D55-A34B-5222DBEA6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B8DB6-AD16-4ABD-B902-693097393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94DB5-4163-4FA6-8012-A8AC318F1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A692F-B0A2-4822-9E73-A02B0814D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6EA86-8D8C-4730-ACE6-4DE7E47E3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CDBE1-E700-4631-8056-898DB8BBB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EE8E6-967D-4796-A958-74ACEF39E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A9C99-F15E-4676-BE35-081D8FB34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F8A8-BCB3-41A2-94F3-06DCDA553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546A1-02A6-4B48-968D-F64384EA2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D412B-CFBA-4247-AF09-E3CF4B52E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27E68-2785-4788-884E-42CF5DF9D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8C812-D7A7-4623-A705-9B9955EE6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B9F36-EE44-4510-B632-37687274F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0B33-EA83-4EDF-99E6-1A05E5312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C8EA-8BB4-4AD7-8528-C4CCF29C7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D3D6-7795-4ECF-938B-3941E1E4E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A1AD-E9FC-49CF-B51B-198CE1328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A070-7836-427D-B70F-D8202CA1D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B7A1-7B7E-400C-83BB-4712E22E7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77DC-9386-4CEA-85FF-B89D6079A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7d47d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7d47d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7d47d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7d47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7d47d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7d47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7d47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7d47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7d47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7d47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7d47d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7d47d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7d47d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7d47d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7d47d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7d47d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7d47d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7d47d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7d47d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7d47d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7d47d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7d47d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1549B-A290-4E67-8462-8152E52CED33}" type="slidenum">
              <a:rPr b="0" lang="es-E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7d47d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7d47d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7d47d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7d47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7d47d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7d47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7d47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7d47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7d47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7d47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7d47d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7d47d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7d47d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7d47d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7d47d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7d47d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7d47d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7d47d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7d47d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7d47d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7d47d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7d47d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06EAF-A19B-453B-9334-76EBD3339312}" type="slidenum">
              <a:rPr b="0" lang="es-E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7d47d"/>
                </a:solidFill>
                <a:latin typeface="Arial"/>
              </a:rPr>
              <a:t>Primera declinación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2f1311"/>
                </a:solidFill>
                <a:latin typeface="Arial"/>
              </a:rPr>
              <a:t>Se usa para sustantivos femeninos y masculinos y para adjetivos femenino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7d47d"/>
                </a:solidFill>
                <a:latin typeface="Arial"/>
              </a:rPr>
              <a:t>Enunciado: nominativo singular-genitivo singular  .Ej. amicitia-ae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152280" y="2514600"/>
            <a:ext cx="3616560" cy="224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-243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79af7d"/>
                </a:solidFill>
                <a:latin typeface="Arial"/>
              </a:rPr>
              <a:t>Sing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243360" indent="-243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2f1311"/>
                </a:solidFill>
                <a:latin typeface="Arial"/>
              </a:rPr>
              <a:t>Nom. -a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243360" indent="-243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f1311"/>
                </a:solidFill>
                <a:latin typeface="Arial"/>
              </a:rPr>
              <a:t>Voc. -a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243360" indent="-243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f1311"/>
                </a:solidFill>
                <a:latin typeface="Arial"/>
              </a:rPr>
              <a:t>Acus. -am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243360" indent="-243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f1311"/>
                </a:solidFill>
                <a:latin typeface="Arial"/>
              </a:rPr>
              <a:t>Genitivo.-ae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243360" indent="-243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f1311"/>
                </a:solidFill>
                <a:latin typeface="Arial"/>
              </a:rPr>
              <a:t>Dat. -ae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243360" indent="-243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f1311"/>
                </a:solidFill>
                <a:latin typeface="Arial"/>
              </a:rPr>
              <a:t>Abl. -a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86200" y="2590920"/>
            <a:ext cx="3618000" cy="217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79af7d"/>
                </a:solidFill>
                <a:latin typeface="Arial"/>
              </a:rPr>
              <a:t>Plura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236520" indent="-236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f1311"/>
                </a:solidFill>
                <a:latin typeface="Arial"/>
              </a:rPr>
              <a:t>Nom. –ae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236520" indent="-236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f1311"/>
                </a:solidFill>
                <a:latin typeface="Arial"/>
              </a:rPr>
              <a:t>Voc. –ae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236520" indent="-236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f1311"/>
                </a:solidFill>
                <a:latin typeface="Arial"/>
              </a:rPr>
              <a:t>Ac. -as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236520" indent="-236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f1311"/>
                </a:solidFill>
                <a:latin typeface="Arial"/>
              </a:rPr>
              <a:t>Gen. -arum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236520" indent="-236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f1311"/>
                </a:solidFill>
                <a:latin typeface="Arial"/>
              </a:rPr>
              <a:t>Dat. -is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236520" indent="-236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f1311"/>
                </a:solidFill>
                <a:latin typeface="Arial"/>
              </a:rPr>
              <a:t>Abl. -is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236520" indent="-23652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7d47d"/>
                </a:solidFill>
                <a:latin typeface="Arial"/>
              </a:rPr>
              <a:t>Insula - ae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79af7d"/>
                </a:solidFill>
                <a:latin typeface="Arial"/>
              </a:rPr>
              <a:t>SING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2f1311"/>
                </a:solidFill>
                <a:latin typeface="Arial"/>
              </a:rPr>
              <a:t>N. insula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2f1311"/>
                </a:solidFill>
                <a:latin typeface="Arial"/>
              </a:rPr>
              <a:t>V. insula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2f1311"/>
                </a:solidFill>
                <a:latin typeface="Arial"/>
              </a:rPr>
              <a:t>Ac. insulam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2f1311"/>
                </a:solidFill>
                <a:latin typeface="Arial"/>
              </a:rPr>
              <a:t>G. insula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2f1311"/>
                </a:solidFill>
                <a:latin typeface="Arial"/>
              </a:rPr>
              <a:t>D. insula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2f1311"/>
                </a:solidFill>
                <a:latin typeface="Arial"/>
              </a:rPr>
              <a:t>Abl. insula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032000" y="1598760"/>
            <a:ext cx="36176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79af7d"/>
                </a:solidFill>
                <a:latin typeface="Arial"/>
              </a:rPr>
              <a:t>PLURA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2f1311"/>
                </a:solidFill>
                <a:latin typeface="Arial"/>
              </a:rPr>
              <a:t>N. insula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2f1311"/>
                </a:solidFill>
                <a:latin typeface="Arial"/>
              </a:rPr>
              <a:t>V. insula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2f1311"/>
                </a:solidFill>
                <a:latin typeface="Arial"/>
              </a:rPr>
              <a:t>Ac. insula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2f1311"/>
                </a:solidFill>
                <a:latin typeface="Arial"/>
              </a:rPr>
              <a:t>G. insularum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2f1311"/>
                </a:solidFill>
                <a:latin typeface="Arial"/>
              </a:rPr>
              <a:t>D. insuli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2f1311"/>
                </a:solidFill>
                <a:latin typeface="Arial"/>
              </a:rPr>
              <a:t>Abl. insuli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7d47d"/>
                </a:solidFill>
                <a:latin typeface="Arial"/>
              </a:rPr>
              <a:t>Adjetivo  bona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79af7d"/>
                </a:solidFill>
                <a:latin typeface="Arial"/>
              </a:rPr>
              <a:t>SING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2f1311"/>
                </a:solidFill>
                <a:latin typeface="Arial"/>
              </a:rPr>
              <a:t>N. bona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2f1311"/>
                </a:solidFill>
                <a:latin typeface="Arial"/>
              </a:rPr>
              <a:t>V. bona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2f1311"/>
                </a:solidFill>
                <a:latin typeface="Arial"/>
              </a:rPr>
              <a:t>Ac. bonam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2f1311"/>
                </a:solidFill>
                <a:latin typeface="Arial"/>
              </a:rPr>
              <a:t>Gen. bona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2f1311"/>
                </a:solidFill>
                <a:latin typeface="Arial"/>
              </a:rPr>
              <a:t>Dat. bona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2f1311"/>
                </a:solidFill>
                <a:latin typeface="Arial"/>
              </a:rPr>
              <a:t>Abl. bona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032000" y="1598760"/>
            <a:ext cx="36176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79af7d"/>
                </a:solidFill>
                <a:latin typeface="Arial"/>
              </a:rPr>
              <a:t>PLURA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2f1311"/>
                </a:solidFill>
                <a:latin typeface="Arial"/>
              </a:rPr>
              <a:t>N. bona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2f1311"/>
                </a:solidFill>
                <a:latin typeface="Arial"/>
              </a:rPr>
              <a:t>V. bona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2f1311"/>
                </a:solidFill>
                <a:latin typeface="Arial"/>
              </a:rPr>
              <a:t>Ac. bona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2f1311"/>
                </a:solidFill>
                <a:latin typeface="Arial"/>
              </a:rPr>
              <a:t>Gen. bonarum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2f1311"/>
                </a:solidFill>
                <a:latin typeface="Arial"/>
              </a:rPr>
              <a:t>Dat. boni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2f1311"/>
                </a:solidFill>
                <a:latin typeface="Arial"/>
              </a:rPr>
              <a:t>Abl. boni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8T14:30:02Z</dcterms:created>
  <dc:creator>E.M.O</dc:creator>
  <dc:description/>
  <dc:language>en-US</dc:language>
  <cp:lastModifiedBy>AUDIOLEASK</cp:lastModifiedBy>
  <dcterms:modified xsi:type="dcterms:W3CDTF">2012-12-16T16:00:12Z</dcterms:modified>
  <cp:revision>7</cp:revision>
  <dc:subject/>
  <dc:title>Primera declinación</dc:title>
</cp:coreProperties>
</file>